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53C505-60B7-4F1D-BB4A-42C75AEBAD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BB4893-A126-41AB-BBE0-829AFB379FE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1920" y="533160"/>
            <a:ext cx="822348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1920" y="533160"/>
            <a:ext cx="822348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51920" y="533160"/>
            <a:ext cx="822348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659480" y="542880"/>
            <a:ext cx="44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9F1998-01B9-491B-923B-AF2D848A0E43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659480" y="542880"/>
            <a:ext cx="44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9D2307-8C59-4BC7-B573-FD4D8ECEDC9E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00923F-8B0C-41F0-ACBC-554AF1600813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659480" y="542880"/>
            <a:ext cx="448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C29FB6-F453-45EE-8B3A-02DCAAB4F428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153280" y="65530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76320" y="6553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22348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79884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86160" y="11430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wand, Frank</dc:creator>
  <dc:description>Rev PA1</dc:description>
  <dc:language>en-US</dc:language>
  <cp:lastModifiedBy>Rowand, Frank</cp:lastModifiedBy>
  <dcterms:modified xsi:type="dcterms:W3CDTF">2016-10-16T20:20:40Z</dcterms:modified>
  <cp:revision>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8/26/2014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 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/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False</vt:lpwstr>
  </property>
  <property fmtid="{D5CDD505-2E9C-101B-9397-08002B2CF9AE}" pid="17" name="SecurityClass">
    <vt:lpwstr>Confidential</vt:lpwstr>
  </property>
  <property fmtid="{D5CDD505-2E9C-101B-9397-08002B2CF9AE}" pid="18" name="TemplateName">
    <vt:lpwstr> </vt:lpwstr>
  </property>
  <property fmtid="{D5CDD505-2E9C-101B-9397-08002B2CF9AE}" pid="19" name="TemplateVersion">
    <vt:lpwstr> </vt:lpwstr>
  </property>
  <property fmtid="{D5CDD505-2E9C-101B-9397-08002B2CF9AE}" pid="20" name="Title">
    <vt:lpwstr/>
  </property>
  <property fmtid="{D5CDD505-2E9C-101B-9397-08002B2CF9AE}" pid="21" name="TotalNumb">
    <vt:lpwstr>False</vt:lpwstr>
  </property>
  <property fmtid="{D5CDD505-2E9C-101B-9397-08002B2CF9AE}" pid="22" name="x">
    <vt:lpwstr>1</vt:lpwstr>
  </property>
</Properties>
</file>